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3713-039B-4695-9AB3-92A229023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7EA3-E770-4362-BCD7-6996176D9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E494-953E-4C28-986A-8F790999A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3B44-9665-4CAE-9DC8-D9912F1C8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75A8-A074-4EED-B259-237DAB38E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653D-52E6-4782-A0DA-7CA02C2F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13AE-EFC3-4C44-9A39-444EA2A4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9D1-92DD-4928-9312-C497147D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A74-4356-484C-90CD-9BD2AA6F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6D4-4F1A-4765-AD81-EB874442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0D2-20CD-4781-BFC9-110B2688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91C1-E838-4439-A83A-AD3EEFE0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4AEA-9DF4-4396-B73A-3346BC40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6D16-224D-474B-B4F1-60E895AD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9F3E-5A68-436F-B9C6-A015DEA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FAB9-3819-4434-85F0-C57794D7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1EA8-F882-4AE4-84A5-B6030DE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862D-B851-42C4-94D5-CD71CB39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124-6ED8-4A35-8379-67DDFE07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D668-5D97-420B-B92C-E08E5FF9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6329-1889-4AA1-ABA5-A50D6996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C5DF-2873-4AB5-86F7-1EC09AE7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BBDF-7417-4AF2-BF76-27287A66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2DB4-926E-4391-ABD2-B226BDF1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680-8176-425D-8708-EC2A6FC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5E3-2D33-4D63-954D-D7CDC2B2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0A0-B149-46B7-AC24-9836DAE7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E61-D38E-4777-83C0-A77B0998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CC2-C334-4543-AC38-BAA22BD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CAB-7EDD-47A9-9C73-64931547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12A-01C7-48F7-B6C6-FFA0C007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B923-B8DB-4944-ABE1-1A92DD66D8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FA4C-3D16-45E9-93A6-906D485091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100" spc="-1" strike="noStrike">
                <a:solidFill>
                  <a:srgbClr val="006666"/>
                </a:solidFill>
                <a:latin typeface="Arial"/>
              </a:rPr>
              <a:t>Direct Teaching</a:t>
            </a:r>
            <a:r>
              <a:rPr b="0" lang="en-US" sz="21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6666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it? P. 7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Direct instruction presents information directly through lecturing, questioning, and demonstrating/model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Five step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Anticipatory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nstru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Guided Practi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los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ndependent Practi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47920" y="5638680"/>
            <a:ext cx="7696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When teaching students how to use technology properl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Problem Based Learning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at is it? P. 8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eaching students thinking skills and decision making ski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-Dewey’s steps for problem solving (pg. 83) figure 3.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-Three kinds of thinking (pg. 81) table 3.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Hints for teaching thinking (pg. 9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ssues within a deba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61048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Inductive Thinking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-Teachers promote group discussion through questions that follow three step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1. Teacher lists students responses to an opening ques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2. Students group their respon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3. Students label or categorize their grouping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-Utilize questions related to the topic at-han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-wait 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20 Questions: Who/What Am I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ooperative Learning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 popular instructional strategy in which small groups work together toward a common go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How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students are assigned to group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group size should be 3-5 memb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the classroom is arranged to facilitate group interac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group process is taught or reviewed as heeded to assure that the group runs smoothl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Us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-rol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corners- each student moves to a corner representing a teacher-determined alternative on a topic. Groups discuss the assigned topics, then they listen and paraphrase ideas representing other corne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other ideas: round robin, round table, think-pair-share, numbered heads together, jigsaw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 Role Playing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 method of problem solving that enables participants to explore alternative solutions to a given problem. It is an unrehearsed dramatic presentation, usually more appropriate for children age 9 or older. It is especially useful for controversial issu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You can draw from a piece of literature and act it out. This helps students to remember and better relate to the text. Also, give children a scenario and allow them to act it out in order to help them understand what is right and wrong and why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Role Pl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ethods of Teaching: Simulation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600200"/>
            <a:ext cx="746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What is it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Learning activities that present an artificial problem or event. Tries to duplicate reality, but removes possibility of injury or risk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ow do we do it? What do we use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Mostly used in intermediate grades. Computer-based simulations are most common now, but other non-computer-based simulations are just as grea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omputer: Oregon Trail, Star Power,  Seal Hunt, The Pilgrims, Sail America, Stock Mark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Non-Computer: voting, hospital, grocery store/market, TABA (questioning to move students to concepts and generalization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1:55:05Z</dcterms:created>
  <dc:creator>Miriam</dc:creator>
  <dc:description/>
  <dc:language>en-US</dc:language>
  <cp:lastModifiedBy>testuser</cp:lastModifiedBy>
  <dcterms:modified xsi:type="dcterms:W3CDTF">2009-02-05T17:52:40Z</dcterms:modified>
  <cp:revision>42</cp:revision>
  <dc:subject/>
  <dc:title>Methods of Teaching: Direct Teaching</dc:title>
</cp:coreProperties>
</file>